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BE1-EBBC-4E16-8C61-FA6DB486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AB7-DEB3-43CA-BB93-54018AED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02D-9CEE-429C-9D79-42FDC0FB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A22-F4F3-4B0F-817F-34987C71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6B4-E1E6-4AE7-ADAF-2A4CA4F4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6C9-2FE7-4488-B487-92D25D3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AE6-D260-4BB1-9593-394A056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A4A-AD6D-4EB1-913E-54D10E92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FF5-3BA8-4EB8-99EE-F4A55857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AF3-0D51-4BC3-A9F6-F634501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E43-16A7-4D58-8D9A-75F2178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687-F2BC-4C8E-9296-CC3BCE4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4D2-5F44-404B-A178-41C7B8F8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P_Owner/My%20Documents/SHINY%20BOOTS.doc" TargetMode="External"/><Relationship Id="rId2" Type="http://schemas.openxmlformats.org/officeDocument/2006/relationships/hyperlink" Target="file:///C:/Documents%20and%20Settings/HP_Owner/My%20Documents/SHINY%20BOOTS.doc" TargetMode="External"/><Relationship Id="rId3" Type="http://schemas.openxmlformats.org/officeDocument/2006/relationships/hyperlink" Target="file:///C:/Documents%20and%20Settings/HP_Owner/My%20Documents/skateboardingslideshow.ppt" TargetMode="External"/><Relationship Id="rId4" Type="http://schemas.openxmlformats.org/officeDocument/2006/relationships/hyperlink" Target="file:///C:/Documents%20and%20Settings/HP_Owner/My%20Documents/On%20Being%20Prepared.doc" TargetMode="External"/><Relationship Id="rId5" Type="http://schemas.openxmlformats.org/officeDocument/2006/relationships/hyperlink" Target="file:///C:/Documents%20and%20Settings/HP_Owner/My%20Documents/The%20Penguin.doc" TargetMode="External"/><Relationship Id="rId6" Type="http://schemas.openxmlformats.org/officeDocument/2006/relationships/hyperlink" Target="file:///C:/Documents%20and%20Settings/HP_Owner/My%20Documents/Snowboarding.doc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P_Owner/My%20Documents/Improv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0"/>
            <a:ext cx="76201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By: James S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ngravers MT"/>
              </a:rPr>
              <a:t>The T is si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1752480"/>
            <a:ext cx="44719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y Portfoli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Mistral"/>
              </a:rPr>
              <a:t>Annotated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85800"/>
            <a:ext cx="853416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iny Boot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a short story I wrote about some boots. It is a deep portrayal of confidence and self righteousn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ateboard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ultimedia presentation. It is a poem written about the joys and pains that are skateboa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n Being Prepa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ersonal essay based around the idea of preparedness causing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he Pengu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em chronicling the epic journey of a penguin back to his eggs. It explains the many trials and tribulations of one of the earth’s most beautiful creatures, the pengu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nowboard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em of a magnitude so great it can not be explained in words. It’s also about snowboa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ir Pie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 piece written about a past event in my grandfather’s lif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Mistral"/>
              </a:rPr>
              <a:t>Annotated Table of Conten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1532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mprov. #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hort improvisational poem about d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. #2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nother short improvisational poem in which we practiced the use of nonsense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. A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hort improvisational story. It was required to include all of the given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Matisse ITC"/>
              </a:rPr>
              <a:t>Creative Writing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907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ello world, I am James Spence. I am in this creative writing class because I felt it would help spurn along my ability to convey messages through the medium of literature. Through participating in this course I have come to understand the many errors I was making in my writings and have successfully overcome many of these difficulties. I believe that if one day I so choose to write a chronicle of my adventures, the many suggestions I have received from my peers shall be put to great use. Hopefully creative writing will help me to spark new creativity so that I may flourish and truly come in to my own as a writer, and a young adult. This class has been inexplicably helpful and informative and I would like to thank every single person that made i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42:36Z</dcterms:created>
  <dc:creator>spence</dc:creator>
  <dc:description/>
  <dc:language>en-US</dc:language>
  <cp:lastModifiedBy>spence</cp:lastModifiedBy>
  <dcterms:modified xsi:type="dcterms:W3CDTF">2008-06-10T01:00:26Z</dcterms:modified>
  <cp:revision>4</cp:revision>
  <dc:subject/>
  <dc:title>Slide 1</dc:title>
</cp:coreProperties>
</file>